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21.wmf" ContentType="image/x-wmf"/>
  <Override PartName="/ppt/media/image6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5.wmf" ContentType="image/x-wmf"/>
  <Override PartName="/ppt/media/image41.jpeg" ContentType="image/jpeg"/>
  <Override PartName="/ppt/media/image1.png" ContentType="image/png"/>
  <Override PartName="/ppt/media/image2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31.wmf" ContentType="image/x-wmf"/>
  <Override PartName="/ppt/media/image38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2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43.jpeg" ContentType="image/jpeg"/>
  <Override PartName="/ppt/media/image17.jpeg" ContentType="image/jpeg"/>
  <Override PartName="/ppt/media/image5.jpeg" ContentType="image/jpeg"/>
  <Override PartName="/ppt/media/image11.wmf" ContentType="image/x-wmf"/>
  <Override PartName="/ppt/media/image34.jpeg" ContentType="image/jpeg"/>
  <Override PartName="/ppt/media/image7.png" ContentType="image/png"/>
  <Override PartName="/ppt/media/image22.jpeg" ContentType="image/jpeg"/>
  <Override PartName="/ppt/media/image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97B-9225-461E-AB0D-2D0D9A2F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926-3CA2-4893-9C2A-D826C668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2D10-583A-4F4F-A2C6-9B55CC87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DFC-C154-4839-9BD5-D9143B7A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B9C8-F3FC-4ECC-AE58-C34A9FBA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2E5-E122-4284-BC75-E1C19E58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F2DA-D62F-464B-B2E2-0B61DD2E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00CA-3825-4EE0-8E16-868D6482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995-4DC0-4E63-B5D0-AC58CCD3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9AE4-023B-412C-9497-97EEA97E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B800-7842-4145-900D-442C69A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3765-9B1E-4525-8F38-C7E6325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72CD-7444-4F10-8CE6-CD20F4435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1.xml"/><Relationship Id="rId3" Type="http://schemas.openxmlformats.org/officeDocument/2006/relationships/slide" Target="slide3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" Target="slide5.xml"/><Relationship Id="rId4" Type="http://schemas.openxmlformats.org/officeDocument/2006/relationships/image" Target="../media/image32.jpeg"/><Relationship Id="rId5" Type="http://schemas.openxmlformats.org/officeDocument/2006/relationships/slide" Target="slide4.xml"/><Relationship Id="rId6" Type="http://schemas.openxmlformats.org/officeDocument/2006/relationships/image" Target="../media/image33.jpeg"/><Relationship Id="rId7" Type="http://schemas.openxmlformats.org/officeDocument/2006/relationships/slide" Target="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16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13.jpeg"/><Relationship Id="rId12" Type="http://schemas.openxmlformats.org/officeDocument/2006/relationships/image" Target="../media/image22.jpeg"/><Relationship Id="rId13" Type="http://schemas.openxmlformats.org/officeDocument/2006/relationships/image" Target="../media/image12.jpeg"/><Relationship Id="rId14" Type="http://schemas.openxmlformats.org/officeDocument/2006/relationships/image" Target="../media/image40.jpeg"/><Relationship Id="rId15" Type="http://schemas.openxmlformats.org/officeDocument/2006/relationships/image" Target="../media/image19.jpeg"/><Relationship Id="rId16" Type="http://schemas.openxmlformats.org/officeDocument/2006/relationships/image" Target="../media/image41.jpeg"/><Relationship Id="rId17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682632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«Наука не имеет отечества , но учёный не бывает без отечества»    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(Луи Паст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468a4b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2" action="ppaction://hlinksldjump"/>
              </a:rPr>
              <a:t>История открытия витами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3" action="ppaction://hlinksldjump"/>
              </a:rPr>
              <a:t>Опред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Р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4" action="ppaction://hlinksldjump"/>
              </a:rPr>
              <a:t>Витамины и 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5" action="ppaction://hlinksldjump"/>
              </a:rPr>
              <a:t>витаминоподобные</a:t>
            </a: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6" action="ppaction://hlinksldjump"/>
              </a:rPr>
              <a:t> ве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ccff"/>
                </a:solidFill>
                <a:uFillTx/>
                <a:latin typeface="Arial"/>
                <a:hlinkClick r:id="rId7" action="ppaction://hlinksldjump"/>
              </a:rPr>
              <a:t>Источник витаминов растительного и животного происх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ль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32920" y="27936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Список слай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900"/>
                            </p:stCondLst>
                            <p:childTnLst>
                              <p:par>
                                <p:cTn id="28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900"/>
                            </p:stCondLst>
                            <p:childTnLst>
                              <p:par>
                                <p:cTn id="29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600"/>
                            </p:stCondLst>
                            <p:childTnLst>
                              <p:par>
                                <p:cTn id="30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9400"/>
                            </p:stCondLst>
                            <p:childTnLst>
                              <p:par>
                                <p:cTn id="3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200"/>
                            </p:stCondLst>
                            <p:childTnLst>
                              <p:par>
                                <p:cTn id="3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4700"/>
                            </p:stCondLst>
                            <p:childTnLst>
                              <p:par>
                                <p:cTn id="33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9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100"/>
                            </p:stCondLst>
                            <p:childTnLst>
                              <p:par>
                                <p:cTn id="3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9300"/>
                            </p:stCondLst>
                            <p:childTnLst>
                              <p:par>
                                <p:cTn id="35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История открытия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025520" y="1341360"/>
            <a:ext cx="5118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й половине XIX века считалось, что пищевая ценность продуктов определяется содержанием в них белков, жиров, углеводов, минеральных солей и воды. Меж тем за века человечество накопило немалый опыт длительных морских путешествий, когда при достаточных запасах продовольствия люди гибли от цинги. Почему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этот вопрос не было ответа до тех пор, пока в 1880 году русский ученый Николай Лунин, изучавший роль минеральных веществ в питании, не заметил, что мыши, поглощавшие искусственную пищу, составленную из всех известных частей молока (казеина, жира, сахара и солей), чахли и погибали. А мышки, получавшие натуральное молоко, были веселы и здоровы. "Из этого следует, что в молоке... содержатся еще другие вещества, незаменимые для питания", - сделал вывод учены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ще через 16 лет нашли причину болезни "бери-бери", распространенной среди жителей Японии и Индонезии, питавшихся в основном очищенным рисом. Врачу Эйкману, работавшему в тюремном госпитале на острове Ява, помогли... куры, бродившие по двору. Их кормили очищенным зерном, и птицы страдали заболеванием, напоминавшим "бери-бери". Стоило заметить его на рис неочищенный - болезнь проходи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м выделил витамин в кристаллическом виде польский ученый Казимир Функ в 1911 году. Год спустя он же придумал и название - от латинского "vita" - "жизнь"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224960"/>
            <a:ext cx="3097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ЗНАЕТЕ ЛИ В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сутствие какого-либо из витаминов в пище ведет к недостаточному образованию в организме определенных жизненно важных ферментов и, как следствие, к специфическому нарушению обмена вещест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1587240" cy="24796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7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7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37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4700"/>
                            </p:stCondLst>
                            <p:childTnLst>
                              <p:par>
                                <p:cTn id="7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700"/>
                            </p:stCondLst>
                            <p:childTnLst>
                              <p:par>
                                <p:cTn id="7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6700"/>
                            </p:stCondLst>
                            <p:childTnLst>
                              <p:par>
                                <p:cTn id="8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Comic Sans MS"/>
              </a:rPr>
              <a:t>Витамины и витаминоподобные веще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50920" y="1628640"/>
            <a:ext cx="8569080" cy="13273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8360" y="3429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76" name="26-048-00" descr="увеличить кеды CONVERSE * HI 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564000" y="3213000"/>
            <a:ext cx="1857240" cy="18097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516720" y="3284640"/>
            <a:ext cx="1714320" cy="1685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0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20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000"/>
                            </p:stCondLst>
                            <p:childTnLst>
                              <p:par>
                                <p:cTn id="8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5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4795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24000" y="115920"/>
          <a:ext cx="8640720" cy="6149880"/>
        </p:xfrm>
        <a:graphic>
          <a:graphicData uri="http://schemas.openxmlformats.org/drawingml/2006/table">
            <a:tbl>
              <a:tblPr/>
              <a:tblGrid>
                <a:gridCol w="2879640"/>
                <a:gridCol w="2881080"/>
                <a:gridCol w="2880000"/>
              </a:tblGrid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раститель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животного происхожд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цитрусовы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ивочное масло, сыр, яйца, печень, рыбий жи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та-Карот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ь, петрушка, шпинат, весенняя зелень, дыня, помидоры, спаржа, капуста, брокколи, абрикос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ко, яйца, рыбий жир, печень трески, жирные сорта рыб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курузное, подсолнечное, оливковое масла, горох, облепих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лиственные овощи, шпинат, брюссельская, белокачанная и цветная капуста, крупы из цельного зерн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хие пивные дрожжи, свинина, проростки пшеницы, овес, орехи (фундук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евой экстракт, проростки пшеницы, отруби пшеницы, соевые бобы, капуста брокко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яичный желток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е овощи, орехи, крупы из цельного зерна, дрожж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в том числе куриное, печень, рыба, молоко, сы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7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бобовые, грибы, рис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ростки и отруби пшеницы, зеленые лиственные овощ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ясо, печень, рыба, молоко, яйц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ехи, зеленые лиственные овощи, бобы, проростки пшеницы, бананы, апельсин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йца, мясные субпродукт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85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r>
                        <a:rPr b="0" lang="en-US" sz="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ожжи, морские водоросл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, почки, икра, яйца, сыр, молоко, творог, мясо, ры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24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ичный желток, печень, поч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364000" y="5445000"/>
            <a:ext cx="287640" cy="287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459640" y="260280"/>
            <a:ext cx="432000" cy="432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5651640" y="5373720"/>
            <a:ext cx="293400" cy="2937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7885080" y="3716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5651640" y="573408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8388360" y="537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885080" y="5013360"/>
            <a:ext cx="358920" cy="358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3276720" y="2492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543564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1"/>
          <a:stretch/>
        </p:blipFill>
        <p:spPr>
          <a:xfrm>
            <a:off x="5076720" y="350028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2"/>
          <a:stretch/>
        </p:blipFill>
        <p:spPr>
          <a:xfrm>
            <a:off x="8604360" y="414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3"/>
          <a:stretch/>
        </p:blipFill>
        <p:spPr>
          <a:xfrm>
            <a:off x="5651640" y="33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4"/>
          <a:stretch/>
        </p:blipFill>
        <p:spPr>
          <a:xfrm>
            <a:off x="5724360" y="256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5"/>
          <a:stretch/>
        </p:blipFill>
        <p:spPr>
          <a:xfrm>
            <a:off x="8604360" y="1413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6"/>
          <a:stretch/>
        </p:blipFill>
        <p:spPr>
          <a:xfrm>
            <a:off x="5724360" y="69228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18920" y="-360"/>
            <a:ext cx="59864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овременная классификация витаминов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solidFill>
            <a:srgbClr val="146c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228600"/>
          <a:ext cx="8748720" cy="6629400"/>
        </p:xfrm>
        <a:graphic>
          <a:graphicData uri="http://schemas.openxmlformats.org/drawingml/2006/table">
            <a:tbl>
              <a:tblPr/>
              <a:tblGrid>
                <a:gridCol w="1562400"/>
                <a:gridCol w="216000"/>
                <a:gridCol w="1231920"/>
                <a:gridCol w="509400"/>
                <a:gridCol w="5229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невритический витамин, аневрин, бери-бери витамин, анти-бери-бери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иб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тор роста, витамин роста, витамин G, лактофлав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никотиновая, никотинами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ацин, антипеллагрический витамин, витамин В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ниацин амид, амид никотиновой кисл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пантоте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дерматитный, фактор против дерматита цыплят, фильтратный фактор, пантотен, витамин B</a:t>
                      </a:r>
                      <a:r>
                        <a:rPr b="0" lang="ru-RU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ридокс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ермин, фактор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анкобал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анемическ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В</a:t>
                      </a:r>
                      <a:r>
                        <a:rPr b="1" lang="en-US" sz="1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фолие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ацин, птероилглутаминовая кислота, антианемический витамин; фактор роста цыплят; индекс "С" произведен от англ. chicken - цыпле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аскорбинова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цинготный витамин, противоскорбутны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флавонои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авоноиды, витамин проницаемости, капилляроукрепляющий вита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тамин 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т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dissolv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0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000"/>
                            </p:stCondLst>
                            <p:childTnLst>
                              <p:par>
                                <p:cTn id="9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Роль витаминов в жизни челове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временная медицина считает, что на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85% состояние нашего здоровья зависит от пита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Но существующие на сегодняшний день способы получения, обработки, хранения и приготовления пищи сводят на нет ее питательную и биологическую ценность. Мало того, что эта пища не обеспечивает все возрастающие потребности человека в витаминах, микро- и макроэлементах, аминокислотах и других питательных веществах, она еще и способствует их усиленному выделению, что приводит к дальнейшему ухудшению состояния здоровья. </a:t>
            </a:r>
            <a:br>
              <a:rPr sz="16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816360" cy="250020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8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8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24000" y="189000"/>
            <a:ext cx="4835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Интересные факты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253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иета для рассеянны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Для сохранения отличной памяти нейрофизиологи рекомендуют как молодым, так и пожилым полюбить рыбу, грецкие орехи, бутерброды из ржаного хлеба со сливочным маслом, салаты из овощей и бобовых, заправленные подсолнечным маслом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Блюда из морской и речной рыбы надо есть как минимум два раза в неделю. Обитатели водных глубин содержат не только фосфор, но разнообразные полиненасыщенные жирные кислоты, которые заставляют плодотворно трудиться наши "серые" клеточ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олезны для улучшения умственных способностей разнообразные фрукты и овощи. Так, ананасы, богатые серотонином, делают чувствительнее наши органы чувств. Бананы в большом количестве содержат витамин В6, недостаток которого повинен в забывчивости. Виноград помогает человеку сосредоточиться. Той же способностью обладают яблоки: зубрить учебник и грызть яблоко -прекрасное сочетание. В помидорах много марганца, который очень полезен людям, занимающимся интеллектуальным трудом. Морковь замедляет процессы старения организма, в том числе и мозга. Тем же эффектом отличаются красный перец (паприка) и апельсины. Шампиньоны дают человеку витамин В3 и пантотеновую кислоту, которые помогают бороться с усталостью. Картофель улучшает работоспособность. Подсолнечное масло влияет на степень живости воображения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826920" y="115920"/>
            <a:ext cx="1905120" cy="1638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-4559040" y="2417040"/>
            <a:ext cx="285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ий кофе для светлой голов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2059200"/>
            <a:ext cx="208944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Утренний кофе для светлой голов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Ничто так не подстегивает работу мысли, как чашечка кофе или чая. У пожилых людей, которые выпивают 220-270 мг кофе утром или днем, память лучше, чем у людей, употребляющих напитки без кофеина. Это выяснилось при тестировании, проведенном учеными из Аризоны. Кстати, этот факт нисколько не противоречит результатам других исследований, в ходе которых обнаружилось, что у стариков память лучше всего работает по утрам, а ближе к вечеру им сложнее справиться с забывчивостью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Геронтологи рекомендуют пожилым людям назначать важные встречи на утро и выпивать чашку кофе, которая способна сохранить их голову светлой и во второй половине дня. Но из-за высокого содержания кофеина этими допингами нельзя злоупотреблять гипертоникам, язвенникам и людям, страдающим некоторыми другими хроническими недугам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3492360" y="549360"/>
            <a:ext cx="1905120" cy="15336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-4294440" y="2550600"/>
            <a:ext cx="214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язание плоти и разу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12000" y="2053440"/>
            <a:ext cx="20872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стязание плоти и раз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клонники всевозможных разгрузочных диет нередко не могут похвастаться хорошей памятью. Если чувство легкого голода активизирует умственную работу, то длительное воздержание от полноценной пищи действует прямо противоположным образом. Опыты зафиксировали: реакция на различные ситуации у людей с нормальным режимом питания происходила через 350-400 миллисекунд, а тем, кто истязал плоть и ограничивал свой дневной рацион, требовалось все 500. Получается, что вместе с килокалориями человек сбрасывает и мегабайты хранящейся в его мозге информации. Кстати, замечено, что память резко ослабевает у тех, кто не имеет привычки завтракать по утр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6012000" y="62064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fill="hold">
                      <p:stCondLst>
                        <p:cond delay="0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300"/>
                            </p:stCondLst>
                            <p:childTnLst>
                              <p:par>
                                <p:cTn id="96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300"/>
                            </p:stCondLst>
                            <p:childTnLst>
                              <p:par>
                                <p:cTn id="9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300"/>
                            </p:stCondLst>
                            <p:childTnLst>
                              <p:par>
                                <p:cTn id="9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300"/>
                            </p:stCondLst>
                            <p:childTnLst>
                              <p:par>
                                <p:cTn id="98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300"/>
                            </p:stCondLst>
                            <p:childTnLst>
                              <p:par>
                                <p:cTn id="9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300"/>
                            </p:stCondLst>
                            <p:childTnLst>
                              <p:par>
                                <p:cTn id="99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7300"/>
                            </p:stCondLst>
                            <p:childTnLst>
                              <p:par>
                                <p:cTn id="9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7800"/>
                            </p:stCondLst>
                            <p:childTnLst>
                              <p:par>
                                <p:cTn id="10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8300"/>
                            </p:stCondLst>
                            <p:childTnLst>
                              <p:par>
                                <p:cTn id="10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итамины и их роль в жизни люде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4751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7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b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64360" y="189000"/>
            <a:ext cx="1766880" cy="1942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260280"/>
            <a:ext cx="6192720" cy="1739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низкомолекулярные органические вещества, поступающие в организм с продуктами питания. Витамины обычно входят в состав ферментов и влияют на многочисленные обменные процессы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4076640"/>
            <a:ext cx="6480360" cy="2228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ефицит витамин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едет к появлению специфических нарушений обмена с  характерными клиническими проявлениями -гиповитаминозам. Избыток витаминов- гипервитаминоз - встречается гораздо реже ( в основном для витамина 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2565360"/>
            <a:ext cx="7921800" cy="131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сть человека в витаминах зависит от его возраста, состояния здоровья ,условий жизни , характера  его деятельности, времени года, содержания в пищи основных компонентов 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4076640"/>
            <a:ext cx="1728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С - аскорбиновая кислота- участвует в окислительно - восстановительных реакциях, повышает сопротивляемость организма экстремальным воздействи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796000" y="4941720"/>
            <a:ext cx="1008000" cy="100836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587520" y="3912480"/>
            <a:ext cx="3173760" cy="2121840"/>
            <a:chOff x="587520" y="3912480"/>
            <a:chExt cx="3173760" cy="2121840"/>
          </a:xfrm>
        </p:grpSpPr>
        <p:sp>
          <p:nvSpPr>
            <p:cNvPr id="53" name=""/>
            <p:cNvSpPr/>
            <p:nvPr/>
          </p:nvSpPr>
          <p:spPr>
            <a:xfrm>
              <a:off x="1014480" y="4217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1448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4480" y="4852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07640" y="5158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97560" y="5472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8064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528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8960" y="59122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08600" y="582228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73760" y="58222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16320" y="58222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24400" y="39571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06240" y="45320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34400" y="45320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96520" y="48704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23960" y="48704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22520" y="5167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20" y="5463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16760" y="54633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530000" y="468396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16280" y="4421880"/>
              <a:ext cx="2520" cy="12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02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29960" y="4736160"/>
              <a:ext cx="180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009440" y="5056560"/>
              <a:ext cx="252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000800" y="5362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985320" y="5676840"/>
              <a:ext cx="8640" cy="16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917640" y="414504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872640" y="4176720"/>
              <a:ext cx="5184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827640" y="4641840"/>
              <a:ext cx="10332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818640" y="4969800"/>
              <a:ext cx="11232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801000" y="5272560"/>
              <a:ext cx="1209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809640" y="5575320"/>
              <a:ext cx="10332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01960" y="4403520"/>
              <a:ext cx="3438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092600" y="4874760"/>
              <a:ext cx="35280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129480" y="41724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9480" y="44866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129480" y="48099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122640" y="511308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12920" y="542736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956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3136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33240" y="5866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23960" y="5777640"/>
              <a:ext cx="4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91280" y="577764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33840" y="577764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43000" y="39124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41840" y="512172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06840" y="5418000"/>
              <a:ext cx="10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000" y="54180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50760" y="463932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32720" y="4376520"/>
              <a:ext cx="252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132720" y="4691160"/>
              <a:ext cx="2520" cy="13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128400" y="5011920"/>
              <a:ext cx="1800" cy="11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3119040" y="5317200"/>
              <a:ext cx="180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101400" y="5631480"/>
              <a:ext cx="8640" cy="16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3033720" y="4100400"/>
              <a:ext cx="5400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2991600" y="4132080"/>
              <a:ext cx="51120" cy="7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856600" y="4570200"/>
              <a:ext cx="1908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856600" y="4623480"/>
              <a:ext cx="190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845080" y="4897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46880" y="4951440"/>
              <a:ext cx="201960" cy="1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18880" y="5227920"/>
              <a:ext cx="119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927880" y="5530680"/>
              <a:ext cx="1011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18400" y="4358880"/>
              <a:ext cx="345600" cy="30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209040" y="4829760"/>
              <a:ext cx="354960" cy="31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54360" y="448668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33040" y="5137560"/>
              <a:ext cx="71856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33040" y="5092920"/>
              <a:ext cx="718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33040" y="513756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0" y="0"/>
                  </a:moveTo>
                  <a:lnTo>
                    <a:pt x="191" y="0"/>
                  </a:lnTo>
                  <a:lnTo>
                    <a:pt x="239" y="72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72320" y="5038920"/>
              <a:ext cx="179640" cy="53640"/>
            </a:xfrm>
            <a:custGeom>
              <a:avLst/>
              <a:gdLst/>
              <a:ahLst/>
              <a:rect l="l" t="t" r="r" b="b"/>
              <a:pathLst>
                <a:path w="239" h="72">
                  <a:moveTo>
                    <a:pt x="239" y="72"/>
                  </a:moveTo>
                  <a:lnTo>
                    <a:pt x="48" y="72"/>
                  </a:lnTo>
                  <a:lnTo>
                    <a:pt x="0" y="0"/>
                  </a:lnTo>
                  <a:lnTo>
                    <a:pt x="239" y="72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36360" y="4816800"/>
              <a:ext cx="110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6960" y="524772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20600" y="4760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_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53800" y="5227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9360" y="525456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26800" y="48592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52440" y="48776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4284720" y="49417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451640" y="4869000"/>
            <a:ext cx="944640" cy="100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04080" y="3935520"/>
            <a:ext cx="438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держится 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ишне, бананах, винограде, яблоках,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5219640" y="1087560"/>
            <a:ext cx="359424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84358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тиамин – необходим для нормальной деятельности центральной  и переферической нервной системы. Регулятор жирового и углеводного об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9280" y="2708280"/>
            <a:ext cx="525636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227640" y="57340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028000" y="573408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68680" y="4844880"/>
            <a:ext cx="401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хлебе, горохе, о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580000" y="2492280"/>
            <a:ext cx="32194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В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В – рибофламин – участвует в окислительно - востонавительных процес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914640" cy="21052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348000" y="558972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549600" y="486900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сыре, молоке, яйцах, батоне, печени, капусте брокколи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788000" y="2205000"/>
            <a:ext cx="3816360" cy="2500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7451640" y="5661000"/>
            <a:ext cx="1020960" cy="9288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788000" y="5589720"/>
            <a:ext cx="1006200" cy="10062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6156360" y="559116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итам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P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иацин – участвует в окислительно – восстановительных реакциях в клетк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3524040" cy="13622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708360" y="4581360"/>
            <a:ext cx="519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Зеленых овощах, орехах, крупах из цельного зерна, дрожж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5589720"/>
            <a:ext cx="936360" cy="936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1047600" cy="809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4932360" y="2276640"/>
            <a:ext cx="28576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9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900"/>
                            </p:stCondLst>
                            <p:childTnLst>
                              <p:par>
                                <p:cTn id="2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4900"/>
                            </p:stCondLst>
                            <p:childTnLst>
                              <p:par>
                                <p:cTn id="2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итамин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тамин А - ретинол -входит в состав зрительного пурпура, усиливает остроту зрения при слабом освещении, укрепляет эпителиальные ткани, необходим для нормального рост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2682720"/>
            <a:ext cx="4681440" cy="17542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564000" y="5013360"/>
            <a:ext cx="519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одержится в : моркови, цитрусовых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336760" cy="2519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364000" y="5516640"/>
            <a:ext cx="104616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71480" y="136440"/>
            <a:ext cx="657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866880" y="5562720"/>
            <a:ext cx="100108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« Красуйся, град Петров, и стой неколебимо как Россия»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С. Пушкин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эма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«МЕДНЫЙ ВСАДНИ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4T14:33:12Z</dcterms:created>
  <dc:creator>Sanchos</dc:creator>
  <dc:description/>
  <dc:language>en-US</dc:language>
  <cp:lastModifiedBy>1</cp:lastModifiedBy>
  <dcterms:modified xsi:type="dcterms:W3CDTF">2006-02-15T06:24:25Z</dcterms:modified>
  <cp:revision>15</cp:revision>
  <dc:subject/>
  <dc:title>Витамины и их роль в жизни людей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00b000000000001023620</vt:lpwstr>
  </property>
</Properties>
</file>